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5.png" ContentType="image/png"/>
  <Override PartName="/ppt/media/image12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41.jpeg" ContentType="image/jpeg"/>
  <Override PartName="/ppt/media/image31.png" ContentType="image/png"/>
  <Override PartName="/ppt/media/image29.png" ContentType="image/png"/>
  <Override PartName="/ppt/media/image43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52B0-533F-4CEE-AE79-AC1D27BE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763-A3F4-4A1A-A5B1-5EDC9B95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83229-3D62-4305-BA04-ACA49CA3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D1509-B997-43F9-BB25-AA7F829F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97EF1-96B3-4278-B17A-28957E5C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EB337-B0D3-4A52-85BB-BF8A241A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0A789-4C0F-475D-B24A-B86D6C96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9AC35-72DB-4011-9DCA-C32781B9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45041-89B1-4461-B4ED-819DF454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D5BB4-502B-401B-9B79-FFEBC574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3D236-BE3E-4F14-A798-E8B038E3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1307-C549-4D30-A22D-6E7B64EB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981E-2699-4D7F-BD3B-5153F264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772A-7801-4A07-8C9F-9DAF5AE5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531C-8E2F-459D-97CE-82E543BD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B3BF-9F56-4FA1-B35F-0D9232B9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D9B5-B45F-4B2D-9739-09A648E4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D78D-41D4-46E8-8AD9-F9215208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E65B-AEB7-4BBC-BD85-88775965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FDDE-7594-485D-80BD-1B011727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3B1-9F1D-4591-A063-1C052EFB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3392-8D7B-405C-A176-208DCFF4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0613-AA9A-4345-8FC4-3C1F6E41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9C79-915A-4099-85D1-9C9D54A1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914A-7749-4692-A801-129C0908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9D18-35BF-4E31-B070-9100D071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76237-2F03-4A74-8652-CAC6A427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31420-395F-45A8-B860-6B6C3790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997CC-4CDB-430D-A5AB-64CFC409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E3EFD-C30C-423B-9B8B-5D4BBFD6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10767-1F55-4640-8B5E-EA3A5A36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960-65A1-4DCB-96DF-2AA4D4E7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528CE-5F27-4228-AA90-1826B3E1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1CEB1-28F5-4C26-9CCB-4A1220C8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CEB47-2FD6-4A5D-B8DC-708E9553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EED96-DDCE-4842-A666-E19476C6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F0B3E-4299-4A38-AAD6-3579B564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7361E-70A1-4CFC-A614-EB6853CE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F1AEF-9057-4456-9EBA-BDF481AF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8EEDA-7207-441E-9AE3-BEFC5DD4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4053E-B0DD-4888-9461-3EFCB42A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1988D-6186-4BDF-BBBA-BC664948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134E-DCA1-4A12-A8DF-BBC981DD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6A023-FF8C-4F51-BEA4-47048073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DBA82-8CD2-4094-BC65-2B698987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3903C-8EFC-469D-A084-BAFEF1CA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2650A-E90D-4F27-81FB-E285C0D7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A70C7-8F5A-49EB-A603-999D36E4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E43DE-BC8B-48F9-A32C-3AAB14BF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AC50E-5CB9-4507-9D85-C48E3A8C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A0F96-26DF-4BC4-99BF-13D44F95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13285-F1DB-4BF5-A7BD-D3D1DE8D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AA40F-6DBA-4B6F-B358-F1CA82BA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F22D-CC21-45FB-8FE3-B84702DF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1D1D2-22E6-4641-A41D-8B756974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D3052-83D5-4F6B-A825-248BE9CC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4E3B4-2A92-4FF2-875C-DBEFE4C3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06C92-0D2A-4D46-A996-54643668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33D1D-BB66-4DB7-BDA8-B376A4AA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3214B-6803-49B2-9BE4-7F83E692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7F5DB-B607-42D7-964C-F668E68E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A7CCF-6FC5-4D3B-B226-CFD979C6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22D72-DDC5-44AE-B811-3532C7A4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52BB8-5DFB-47C5-971D-C414F53D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100-5786-4D40-A800-0B9063EB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7DF36-AEC6-40F8-8143-E7FA1EF3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3FD7F-1BA4-4281-9711-9D98BDF6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1872B-CF76-4F2D-9736-5317B4E8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8C794-5B48-4A6F-93D1-51A4C210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FAA9B-187C-4862-86B5-3CECB5A5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F0EA5-D762-4D71-8C80-AB62F44E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58DE8-186C-4AAD-87C6-7682103D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4D27F-2058-4CBA-8A86-3FEC68AC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02125-5F02-4340-B54B-4D187D7E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17102-CA03-43BF-A8C8-BCDA46BA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072-04D7-4A6F-B6AE-CE356EA7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6DA62-1294-4129-B3C0-BFCCB8EE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E577F-6179-439C-897A-726551C8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5AA26-5796-4258-A560-007BE6BA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6635A-F5A9-4759-98EB-6D630827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C999F-D797-4981-B86F-B0F7A45E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83920-3C67-4D56-9F2A-A252A6F1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4C78D-BC69-4D30-A8BB-6890E403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209F9-57A7-4864-9A99-8B49B4FB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7FE42-E309-4EAA-BD21-7D763FD9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CECF4-13B9-4B5D-848D-A784D36E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FA8C-4AC9-4D66-9B69-A051048E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92BDB-113D-4C55-ADAB-6B38BFA5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59475-341C-47F9-BF2E-EB46D7CB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43D7F-9AF7-4DD9-B691-6263B226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CF416-8D1D-4EEB-BD01-29E445B8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02E4F-7D42-4A72-B457-8A4EA626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426DE-2244-48CD-8E80-F9626E96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456BB-7983-483B-BE48-139029E9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7F521-FDCB-4E7A-860C-635E19ED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BF95B-3897-462D-B5A0-66C05730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C1A07-95B3-4207-B2E7-13F8AA1C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0E1-55FC-462C-99BF-82C1065C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A57B3-F789-4E54-9B4E-C3AC8628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EADCE-DB19-4D3A-B755-336A49C8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60875-6ECF-413E-8229-FF7189F2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8302F-BF3A-4141-9BA8-3958CC26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80DF6-69C8-4619-877E-7302DE34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19074-C213-44CE-A2E1-E201B3FC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4C122-97F0-4184-83A8-74CDCCC3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079D9-A746-4785-8033-1FBAD171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B1566-ED43-479B-B0E9-9331F877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1E211-FB53-4A5F-809C-32953D8E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ED6E-B12C-478A-9FCE-3206E088A8BA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ector reto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7217-734F-4E25-88EA-186A438DE3B9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318D-0ACF-4505-AD74-D50D4229075F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ector reto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C650-D48E-420E-83CD-EB82FE867E1C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ector reto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9BCD-DBEF-4F6A-BB74-E40FE96C60A4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E45B-2F73-4EDB-B935-4CD8B346579E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ector reto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4B2B-A0BE-4CE7-A79D-47EC8467A11C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3F76-E1D0-4298-B5F0-D14B509785A6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4812-03FF-4743-8517-2CBFF75D5C60}" type="slidenum">
              <a:rPr b="0" lang="pt-B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hyperlink" Target="mailto:quimicopolar@gmail.com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pt.wikipedia.org/wiki/Ficheiro:Ethylene_glycol_chemical_structure.png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pt.wikipedia.org/wiki/Ficheiro:Ethylene-glycol-3D-vdW.png" TargetMode="External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212760" y="749160"/>
            <a:ext cx="8254800" cy="33465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43329"/>
                </a:solidFill>
                <a:latin typeface="Franklin Gothic Book"/>
              </a:rPr>
              <a:t>Profª Moisés Rodrigo G dos Santo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43329"/>
                </a:solidFill>
                <a:latin typeface="Franklin Gothic Book"/>
              </a:rPr>
              <a:t>www.quimicopolar.wikispaces.co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5" descr="2002-71-132-52-i004"/>
          <p:cNvPicPr/>
          <p:nvPr/>
        </p:nvPicPr>
        <p:blipFill>
          <a:blip r:embed="rId2"/>
          <a:stretch/>
        </p:blipFill>
        <p:spPr>
          <a:xfrm>
            <a:off x="468360" y="1143000"/>
            <a:ext cx="8675640" cy="4309920"/>
          </a:xfrm>
          <a:prstGeom prst="rect">
            <a:avLst/>
          </a:prstGeom>
          <a:ln w="0">
            <a:noFill/>
          </a:ln>
        </p:spPr>
      </p:pic>
      <p:sp>
        <p:nvSpPr>
          <p:cNvPr id="426" name="Retângulo 6"/>
          <p:cNvSpPr/>
          <p:nvPr/>
        </p:nvSpPr>
        <p:spPr>
          <a:xfrm>
            <a:off x="428760" y="5769000"/>
            <a:ext cx="8715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Tahoma"/>
              </a:rPr>
              <a:t>Portanto, quanto maior o número de partículas do soluto em solução, maior o abaixamento da pressão máxima de vapor e menor a pressão de vapor do solv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8" name="Tonoscopia   Trabalho de Quimica.avi" descr=""/>
          <p:cNvPicPr/>
          <p:nvPr/>
        </p:nvPicPr>
        <p:blipFill>
          <a:blip r:embed="rId1"/>
          <a:stretch/>
        </p:blipFill>
        <p:spPr>
          <a:xfrm>
            <a:off x="357120" y="1214280"/>
            <a:ext cx="857268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4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8894520" cy="16891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42f"/>
                </a:solidFill>
                <a:latin typeface="Franklin Gothic Book"/>
              </a:rPr>
              <a:t>Temperatura</a:t>
            </a: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: A pressão de vapor aumenta como aumento da temperatur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42f"/>
                </a:solidFill>
                <a:latin typeface="Franklin Gothic Book"/>
              </a:rPr>
              <a:t>Natureza do Soluto</a:t>
            </a: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: Cada líquido apresenta uma pressão de vapor característica numa mesma temperatur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É o estudo da elevação da temperatura de ebulição de um líquido, por meio da adição de um soluto não volátil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diminuição da pressão máxima de vapor do solvente, devido à adição de um soluto, leva inevitavelmente ao </a:t>
            </a:r>
            <a:r>
              <a:rPr b="1" lang="pt-BR" sz="3200" spc="-1" strike="noStrike">
                <a:solidFill>
                  <a:srgbClr val="4e3b30"/>
                </a:solidFill>
                <a:latin typeface="Franklin Gothic Book"/>
              </a:rPr>
              <a:t>aumento da temperatura de ebuliçã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3714480"/>
            <a:ext cx="8686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70c0"/>
                </a:solidFill>
                <a:latin typeface="Franklin Gothic Book"/>
              </a:rPr>
              <a:t>Quanto maior a concentração do soluto, maior a elevação da temperatura de ebulição do solvente e maior a temperatura de ebulição do mesm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5" name="Picture 2" descr="http://www.profpc.com.br/2002-71-132-53-i001.jpg"/>
          <p:cNvPicPr/>
          <p:nvPr/>
        </p:nvPicPr>
        <p:blipFill>
          <a:blip r:embed="rId1"/>
          <a:stretch/>
        </p:blipFill>
        <p:spPr>
          <a:xfrm>
            <a:off x="1000080" y="285840"/>
            <a:ext cx="652140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ítulo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37" name="capture-1.avi" descr=""/>
          <p:cNvPicPr/>
          <p:nvPr/>
        </p:nvPicPr>
        <p:blipFill>
          <a:blip r:embed="rId2"/>
          <a:stretch/>
        </p:blipFill>
        <p:spPr>
          <a:xfrm>
            <a:off x="0" y="1357200"/>
            <a:ext cx="89298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É o estudo do abaixamento da temperatura de congelação de um líquido, por meio da adição de um solut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diminuição da pressão de vapor do solvente, devido à adição de um soluto, leva à diminuição da temperatura de congelament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É uma temperatura e uma pressão nas quais as fases sólida, líquida e gasosa coexiste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e3b30"/>
                </a:solidFill>
                <a:latin typeface="Franklin Gothic Book"/>
              </a:rPr>
              <a:t>http://www.mspc.eng.br/tecdiv/im01/agua_diagr_est1.gif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Picture 5" descr="agua_diagr_est1"/>
          <p:cNvPicPr/>
          <p:nvPr/>
        </p:nvPicPr>
        <p:blipFill>
          <a:blip r:embed="rId2"/>
          <a:stretch/>
        </p:blipFill>
        <p:spPr>
          <a:xfrm>
            <a:off x="1258920" y="2421000"/>
            <a:ext cx="619272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5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304560" y="1599840"/>
            <a:ext cx="4190760" cy="47242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A Figura ilustra o ponto triplo. Gelo (iceberg) coexistindo com o líquido no qual flutua, e com a fase gasosa (ar e vapor de água)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6" name="Picture 4" descr="Quimica_TD_fig03"/>
          <p:cNvPicPr/>
          <p:nvPr/>
        </p:nvPicPr>
        <p:blipFill>
          <a:blip r:embed="rId3"/>
          <a:stretch/>
        </p:blipFill>
        <p:spPr>
          <a:xfrm>
            <a:off x="971640" y="1628640"/>
            <a:ext cx="332244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Fenômeno da disseminação espontânea entre um líquido em outro e vice-vers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difusão de um líquido para outro através de membranas semipermeáveis recebe o nome de OSMO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028"/>
          <p:cNvSpPr/>
          <p:nvPr/>
        </p:nvSpPr>
        <p:spPr>
          <a:xfrm>
            <a:off x="539640" y="476280"/>
            <a:ext cx="813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Um dos assuntos que são freqüentemente abordados nos exames vestibulares do país são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1" lang="pt-BR" sz="2000" spc="-1" strike="noStrike">
                <a:solidFill>
                  <a:srgbClr val="ff0000"/>
                </a:solidFill>
                <a:latin typeface="Tahoma"/>
              </a:rPr>
              <a:t>PROPRIEDADES COLIGATIVA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A sua aplicação está em um dos principais laboratórios de química que você conhece :         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Text Box 1029"/>
          <p:cNvSpPr/>
          <p:nvPr/>
        </p:nvSpPr>
        <p:spPr>
          <a:xfrm>
            <a:off x="468360" y="3141720"/>
            <a:ext cx="8207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PROPRIEDADES COLIGATIVA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          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São propriedades que estão intimamente relacionadas com o número de partículas de um soluto dispersas em uma solução.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           Quando adiciona-se sal de cozinha, (NaCl) á água fervente nota-se que a fervura imediatamente pár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Por quê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tângulo 3"/>
          <p:cNvSpPr/>
          <p:nvPr/>
        </p:nvSpPr>
        <p:spPr>
          <a:xfrm>
            <a:off x="4184640" y="235728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Tahoma"/>
              </a:rPr>
              <a:t>A COZINHA</a:t>
            </a:r>
            <a:r>
              <a:rPr b="1" lang="pt-BR" sz="18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 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sp>
        <p:nvSpPr>
          <p:cNvPr id="451" name="Retângulo 3"/>
          <p:cNvSpPr/>
          <p:nvPr/>
        </p:nvSpPr>
        <p:spPr>
          <a:xfrm>
            <a:off x="428760" y="4786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Tahoma"/>
              </a:rPr>
              <a:t>Quanto maior a concentração do soluto, maior o abaixamento da temperatura de congelamento do solvente e menor a temperatura de congelamento do mesm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1"/>
          <p:cNvSpPr/>
          <p:nvPr/>
        </p:nvSpPr>
        <p:spPr>
          <a:xfrm>
            <a:off x="714240" y="300528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feito Crioscopico do sal no Ponto de Solidificação da água: à direita água pura com Ponto de Solidificação de 0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 e a esquerda água e sal com Ponto de Solidificação de -18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3" name="Picture 2" descr="http://www.profpc.com.br/Foto_acquasale.jpg"/>
          <p:cNvPicPr/>
          <p:nvPr/>
        </p:nvPicPr>
        <p:blipFill>
          <a:blip r:embed="rId2"/>
          <a:stretch/>
        </p:blipFill>
        <p:spPr>
          <a:xfrm>
            <a:off x="1643040" y="428760"/>
            <a:ext cx="52293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3" descr=""/>
          <p:cNvPicPr/>
          <p:nvPr/>
        </p:nvPicPr>
        <p:blipFill>
          <a:blip r:embed="rId1"/>
          <a:stretch/>
        </p:blipFill>
        <p:spPr>
          <a:xfrm>
            <a:off x="714240" y="2357280"/>
            <a:ext cx="8001000" cy="280836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4"/>
          <p:cNvSpPr/>
          <p:nvPr/>
        </p:nvSpPr>
        <p:spPr>
          <a:xfrm>
            <a:off x="571680" y="214200"/>
            <a:ext cx="8076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5644e"/>
                </a:solidFill>
                <a:latin typeface="Verdana"/>
              </a:rPr>
              <a:t>OSMO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5644e"/>
                </a:solidFill>
                <a:latin typeface="Verdana"/>
              </a:rPr>
              <a:t> </a:t>
            </a:r>
            <a:r>
              <a:rPr b="0" lang="pt-BR" sz="3200" spc="-1" strike="noStrike">
                <a:solidFill>
                  <a:srgbClr val="a5644e"/>
                </a:solidFill>
                <a:latin typeface="Verdana"/>
              </a:rPr>
              <a:t>fenômeno que permite a passagem do solvente do meio mais </a:t>
            </a: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diluído</a:t>
            </a:r>
            <a:r>
              <a:rPr b="0" lang="pt-BR" sz="3200" spc="-1" strike="noStrike">
                <a:solidFill>
                  <a:srgbClr val="a5644e"/>
                </a:solidFill>
                <a:latin typeface="Verdana"/>
              </a:rPr>
              <a:t> para o meio mais </a:t>
            </a: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concentrado</a:t>
            </a:r>
            <a:r>
              <a:rPr b="0" lang="pt-BR" sz="3200" spc="-1" strike="noStrike">
                <a:solidFill>
                  <a:srgbClr val="a5644e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tângulo 4"/>
          <p:cNvSpPr/>
          <p:nvPr/>
        </p:nvSpPr>
        <p:spPr>
          <a:xfrm>
            <a:off x="285840" y="52149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Osmose é a passagem de um solvente para o interior de uma solução feita desse mesmo solvente, através de uma membrana semipermeável (MSP). A osmose também é uma propriedade coligativa da solução, pois depende do número de partículas dissolvi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848360" cy="433836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3"/>
          <p:cNvSpPr/>
          <p:nvPr/>
        </p:nvSpPr>
        <p:spPr>
          <a:xfrm>
            <a:off x="609480" y="3808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Verdana"/>
              </a:rPr>
              <a:t>Análise microscópic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PRESSÃO DE VAPOR DA ÁGUA PURA  (P</a:t>
            </a:r>
            <a:r>
              <a:rPr b="0" lang="pt-BR" sz="3200" spc="-1" strike="noStrike" baseline="-25000">
                <a:solidFill>
                  <a:srgbClr val="4e3b30"/>
                </a:solidFill>
                <a:latin typeface="Franklin Gothic Book"/>
              </a:rPr>
              <a:t>0</a:t>
            </a: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) É MAIOR QUE A DA ÁGUA NA SOLUÇÃO (P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ÁGUA SE DESLOCA DE UMA REGIÃO MENOS CONCETRADA PARA UMA REGIÃO MAIS CONCENTRAD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8955000" cy="5429160"/>
          </a:xfrm>
          <a:prstGeom prst="rect">
            <a:avLst/>
          </a:prstGeom>
          <a:ln w="0">
            <a:noFill/>
          </a:ln>
        </p:spPr>
      </p:pic>
      <p:sp>
        <p:nvSpPr>
          <p:cNvPr id="463" name="Retângulo 6"/>
          <p:cNvSpPr/>
          <p:nvPr/>
        </p:nvSpPr>
        <p:spPr>
          <a:xfrm>
            <a:off x="3571920" y="3429000"/>
            <a:ext cx="5357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70c0"/>
                </a:solidFill>
                <a:latin typeface="Tahoma"/>
              </a:rPr>
              <a:t>No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Tahoma"/>
              </a:rPr>
              <a:t>A membrana semipermeável (MSP), que pode ser feita de bexiga de animal ou celofane, é seletiva, ou seja, deixa passar o solvente, mas não deixa passar o solu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Tahoma"/>
              </a:rPr>
              <a:t>Observa-se que o nível do solvente diminui após um certo tempo, enquanto o nível da solução aum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" descr=""/>
          <p:cNvPicPr/>
          <p:nvPr/>
        </p:nvPicPr>
        <p:blipFill>
          <a:blip r:embed="rId2"/>
          <a:stretch/>
        </p:blipFill>
        <p:spPr>
          <a:xfrm>
            <a:off x="0" y="1125360"/>
            <a:ext cx="5832360" cy="31863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375444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mínima pressão externa que deve ser aplicada à solução quando separada do seu solvente puro para impedir a osmos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Pressão osmótica depende da concentração da soluçã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Ocorre quando se aplica uma pressão no lado da solução mais salina ou concentrada, revertendo-se a tendência natural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Neste caso, a água da solução salina passa para o lado da água pura, ficando retidos os íons dos sais nela dissolvido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A pressão a ser aplicada equivale a uma pressão maior do que a pressão osmótica característica da solução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" descr=""/>
          <p:cNvPicPr/>
          <p:nvPr/>
        </p:nvPicPr>
        <p:blipFill>
          <a:blip r:embed="rId2"/>
          <a:stretch/>
        </p:blipFill>
        <p:spPr>
          <a:xfrm>
            <a:off x="214200" y="1119240"/>
            <a:ext cx="89298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0" y="3854520"/>
            <a:ext cx="4680000" cy="25574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2190960" cy="15714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5" descr=""/>
          <p:cNvPicPr/>
          <p:nvPr/>
        </p:nvPicPr>
        <p:blipFill>
          <a:blip r:embed="rId4"/>
          <a:stretch/>
        </p:blipFill>
        <p:spPr>
          <a:xfrm>
            <a:off x="5508720" y="314172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unoscopia.avi" descr=""/>
          <p:cNvPicPr/>
          <p:nvPr/>
        </p:nvPicPr>
        <p:blipFill>
          <a:blip r:embed="rId1"/>
          <a:stretch/>
        </p:blipFill>
        <p:spPr>
          <a:xfrm>
            <a:off x="190440" y="214200"/>
            <a:ext cx="866772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Título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Fazer uma Pesquisa sobre as propriedades coligativas (0 a 5) e enviar no meu email: </a:t>
            </a:r>
            <a:r>
              <a:rPr b="0" lang="pt-BR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quimicopolar@gmail.com</a:t>
            </a: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 (não será aceita copia fiel da internet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Realizar um experimento em sala de aula (0 a 5) e explicar. (pode trazê-lo filmado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"/>
          <p:cNvSpPr/>
          <p:nvPr/>
        </p:nvSpPr>
        <p:spPr>
          <a:xfrm>
            <a:off x="0" y="3315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água pura à pressão de 1 atm possui ponto de fusão de 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 e ponto de ebulição de 10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quando adicionamos um soluto não volátil à água, o soluto modifica as propriedades físicas da água. Agora a água congela abaixo de 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 e ferve acima de 10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. Estas alterações das propriedades físicas da água devido à adição do soluto são denominados d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feitos coligativ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Picture 2" descr="http://ceticismo.files.wordpress.com/2008/11/agua_pura.jpg"/>
          <p:cNvPicPr/>
          <p:nvPr/>
        </p:nvPicPr>
        <p:blipFill>
          <a:blip r:embed="rId1"/>
          <a:stretch/>
        </p:blipFill>
        <p:spPr>
          <a:xfrm>
            <a:off x="155520" y="-18618120"/>
            <a:ext cx="2190960" cy="2457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http://ceticismo.files.wordpress.com/2008/11/agua_pura.jpg"/>
          <p:cNvPicPr/>
          <p:nvPr/>
        </p:nvPicPr>
        <p:blipFill>
          <a:blip r:embed="rId2"/>
          <a:stretch/>
        </p:blipFill>
        <p:spPr>
          <a:xfrm>
            <a:off x="3000240" y="1214280"/>
            <a:ext cx="219096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14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O uso de aditivos, como o etilenoglicol, à água do radiador de carros evita que ela entre em ebulição, no caso de um superaquecimento do motor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5" descr="Ethylene glycol chemical structur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5429160"/>
            <a:ext cx="4371840" cy="1141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Ethylene-glycol-3D-vdW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86280" y="825480"/>
            <a:ext cx="2643480" cy="1717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http://www.wolfracing.com.br/images/motocool.jpg"/>
          <p:cNvPicPr/>
          <p:nvPr/>
        </p:nvPicPr>
        <p:blipFill>
          <a:blip r:embed="rId6"/>
          <a:stretch/>
        </p:blipFill>
        <p:spPr>
          <a:xfrm>
            <a:off x="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4"/>
          <p:cNvSpPr/>
          <p:nvPr/>
        </p:nvSpPr>
        <p:spPr>
          <a:xfrm>
            <a:off x="-142920" y="6122160"/>
            <a:ext cx="500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Aditivo do radiador: evita o congelamento e a ebulição da água que refrigera o motor do carr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Nos países em que o inverno é rigoroso, esse mesmo aditivo tem o efeito de evitar o congelamento da água do radiador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Nesses países, joga-se SAL nas estradas e ruas com acúmulo de neve para derretê-l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Em verduras cruas com sal, as células perdem água mais rapidamente, murchando em pouco temp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"/>
          <p:cNvSpPr/>
          <p:nvPr/>
        </p:nvSpPr>
        <p:spPr>
          <a:xfrm>
            <a:off x="285840" y="168480"/>
            <a:ext cx="8572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Para cada propriedade física que modifica temos uma propriedade coligativa que estuda este efei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28760" y="1857240"/>
          <a:ext cx="8572320" cy="2198880"/>
        </p:xfrm>
        <a:graphic>
          <a:graphicData uri="http://schemas.openxmlformats.org/drawingml/2006/table">
            <a:tbl>
              <a:tblPr/>
              <a:tblGrid>
                <a:gridCol w="4286160"/>
                <a:gridCol w="4286160"/>
              </a:tblGrid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0000"/>
                          </a:solidFill>
                          <a:latin typeface="Trebuchet MS"/>
                          <a:ea typeface="Times New Roman"/>
                        </a:rPr>
                        <a:t>EFEITO COLIG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0000"/>
                          </a:solidFill>
                          <a:latin typeface="Trebuchet MS"/>
                          <a:ea typeface="Times New Roman"/>
                        </a:rPr>
                        <a:t>PROPRIEDADE COLIG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iminuição da pressão de vap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onoscop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umento do Ponto de Ebuli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bulioscop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iminuição do Ponto de Congel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rioscop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umento da Pressão Osmó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smoscop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Retângulo 7"/>
          <p:cNvSpPr/>
          <p:nvPr/>
        </p:nvSpPr>
        <p:spPr>
          <a:xfrm>
            <a:off x="500040" y="4643280"/>
            <a:ext cx="86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70c0"/>
                </a:solidFill>
                <a:latin typeface="Trebuchet MS"/>
              </a:rPr>
              <a:t>Os efeitos coligativos dependem </a:t>
            </a:r>
            <a:r>
              <a:rPr b="1" lang="pt-BR" sz="2800" spc="-1" strike="noStrike">
                <a:solidFill>
                  <a:srgbClr val="0070c0"/>
                </a:solidFill>
                <a:latin typeface="Trebuchet MS"/>
              </a:rPr>
              <a:t>somente</a:t>
            </a:r>
            <a:r>
              <a:rPr b="0" lang="pt-BR" sz="2800" spc="-1" strike="noStrike">
                <a:solidFill>
                  <a:srgbClr val="0070c0"/>
                </a:solidFill>
                <a:latin typeface="Trebuchet MS"/>
              </a:rPr>
              <a:t> do número de partículas do soluto dissolvidas. Quanto maior for o número de partículas do soluto dissolvidas, maiores serão os efeitos coligativ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Diminuição da pressão de vapor de um líquido, provocada pela dissolução de um soluto não-volátil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pressão de vapor da solução formada por um soluto (não-volátil) em solvente é menor que a do solvente puro, pois a interação entre as partículas do soluto e as moléculas do solvente diminuem as saídas destas última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18:55:09Z</dcterms:created>
  <dc:creator>Marcia</dc:creator>
  <dc:description/>
  <dc:language>en-US</dc:language>
  <cp:lastModifiedBy>Moises</cp:lastModifiedBy>
  <dcterms:modified xsi:type="dcterms:W3CDTF">2010-06-24T01:32:39Z</dcterms:modified>
  <cp:revision>60</cp:revision>
  <dc:subject/>
  <dc:title>PROPRIEDADES COLIGATIV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